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24A-3F32-45F6-86C5-4FEF9C44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798-A680-401F-9AFF-788ADE0D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448-4FDA-4253-AC86-85F9DB05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154-CD04-462A-BFCE-BA580987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A310-960C-461E-B4CF-E5762FED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9719-18C4-4818-BC4A-6DC175BA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0A9B-BEFA-49B1-80F2-BCA47D67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B912-7B31-44A0-81A1-BC0E1954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5D4F-FB02-42AE-B94E-69D4CDC7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A345-8404-408F-BA73-8B59D0B9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815D-9863-4E12-9333-A3327037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145-2074-4B4A-8832-985459C4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84B6-8BB9-48BA-8810-CF6793FF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208E-7BDE-41FA-B0D6-339E1930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5AC4-6AE1-438E-860B-914A6F6D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202F-4AA5-4104-9BCA-134471C0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16B0-95CE-4855-B45F-3B0FEC0D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AE9-191F-477E-BE01-A89A1F2B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8E2-30A6-48F9-971E-EA7D9567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824-90A7-4695-90E3-AB1D33F9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CC2-3170-4972-9F8D-39D4832E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19A-627B-4C7D-806C-745D903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5B7-267E-485C-AEE4-EACCF0DD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2E5-448B-42E4-B4EB-8E708886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7156-EDF7-469B-B6CE-66F101470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D0A0-A285-42E8-8781-1C7AD8413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342880"/>
            <a:ext cx="723888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中国风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5736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微软中国</cp:lastModifiedBy>
  <dcterms:modified xsi:type="dcterms:W3CDTF">2010-10-15T16:50:08Z</dcterms:modified>
  <cp:revision>13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