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06A-FAB2-454C-B8F5-F6090D58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F6F-E554-4B85-AC22-DC64446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5A1-1D6F-42C4-A750-1D3A216D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E9E-C3F9-4647-A148-16636FDA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8D70-4149-4DF4-8705-C54EEB7E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3D4A-AF75-4E59-A8D7-C6211DCE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1EE-B935-4F0D-8DC0-0990C856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F00B-EDF0-4038-865F-D192A84E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2DF-0C6A-41D6-AD9F-7BC28C13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3A0-BB64-4712-80B9-2301FB7B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7A8-2D8E-455C-B95F-AC2E4F5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B2B-C46B-41E0-A336-F1C180B4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4B9-A08C-4D1A-A884-C8A0838E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96B-CB81-476B-BEEA-C1CDA8E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F7F-45F4-43BC-8260-0036161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3C8F-7B1B-49E8-95E7-677FF413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D3DB-47A2-48F3-AAF5-B298FFEF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EB0-2132-46C7-93D6-A2294FA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658-05F1-49F3-9D29-FED311B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EDB-76A8-444F-B758-CAC8B56C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359-413C-4235-9D74-642ADFF4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3F4-C360-4D07-9073-35AA765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391-0DA6-48DF-BF92-EAA4798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BB6-D739-44CC-9AFF-912B6F8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008B-876D-438E-B83C-BDBB0831D89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DDB6-9C0D-4955-9CAE-1C1835FAD9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991240" y="24271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738040" y="378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姓名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738040" y="410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33:19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小龙</cp:lastModifiedBy>
  <cp:lastPrinted>1899-12-30T00:00:00Z</cp:lastPrinted>
  <dcterms:modified xsi:type="dcterms:W3CDTF">2013-06-14T09:46:55Z</dcterms:modified>
  <cp:revision>10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