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128-A360-4F12-ADA7-28CFDF98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425-E076-4AC4-AC3B-C423AE2C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DB3-B2DF-4A72-82CB-78B2B753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92F-299E-420F-BA90-FAF52631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8F9-CC89-413C-BB75-1F0D8298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DA2-39E3-4A6B-8279-B013B9AD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9DC-889C-4004-A416-8202F550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ECD-8273-4F5E-AB12-21AA4F7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923-0B80-4763-830C-DC80BF8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CE8-4EB4-4427-B367-7C74A11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5C7-871C-47AD-BEDB-FE420A9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4BC-A441-4F7A-9B68-4150F81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2E13-E45C-464E-B0CB-3D01504E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914400" y="990720"/>
            <a:ext cx="7478640" cy="4817880"/>
            <a:chOff x="914400" y="990720"/>
            <a:chExt cx="7478640" cy="481788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123200" y="1230120"/>
              <a:ext cx="7059600" cy="431388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2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914400" y="990720"/>
              <a:ext cx="7478640" cy="4817880"/>
              <a:chOff x="914400" y="990720"/>
              <a:chExt cx="7478640" cy="481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914600" y="1223280"/>
                <a:ext cx="448560" cy="427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914400" y="1229040"/>
                <a:ext cx="376920" cy="428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944280" y="990720"/>
                <a:ext cx="7448760" cy="40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944280" y="5397480"/>
                <a:ext cx="7448760" cy="41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课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答辩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609480" y="609480"/>
            <a:ext cx="8093160" cy="58676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560520" y="1096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7" descr=""/>
          <p:cNvPicPr/>
          <p:nvPr/>
        </p:nvPicPr>
        <p:blipFill>
          <a:blip r:embed="rId4"/>
          <a:stretch/>
        </p:blipFill>
        <p:spPr>
          <a:xfrm>
            <a:off x="639720" y="231624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矩形 8" descr=""/>
          <p:cNvPicPr/>
          <p:nvPr/>
        </p:nvPicPr>
        <p:blipFill>
          <a:blip r:embed="rId5"/>
          <a:stretch/>
        </p:blipFill>
        <p:spPr>
          <a:xfrm>
            <a:off x="712800" y="3382920"/>
            <a:ext cx="9763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矩形 9" descr=""/>
          <p:cNvPicPr/>
          <p:nvPr/>
        </p:nvPicPr>
        <p:blipFill>
          <a:blip r:embed="rId6"/>
          <a:stretch/>
        </p:blipFill>
        <p:spPr>
          <a:xfrm>
            <a:off x="792000" y="4449600"/>
            <a:ext cx="9763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直接连接符 11"/>
          <p:cNvSpPr/>
          <p:nvPr/>
        </p:nvSpPr>
        <p:spPr>
          <a:xfrm flipV="1">
            <a:off x="1600200" y="160020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2"/>
          <p:cNvSpPr/>
          <p:nvPr/>
        </p:nvSpPr>
        <p:spPr>
          <a:xfrm flipV="1">
            <a:off x="1676520" y="2590920"/>
            <a:ext cx="58672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 flipV="1">
            <a:off x="1676520" y="3580920"/>
            <a:ext cx="586728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7"/>
          <p:cNvSpPr/>
          <p:nvPr/>
        </p:nvSpPr>
        <p:spPr>
          <a:xfrm flipV="1">
            <a:off x="1752480" y="4572000"/>
            <a:ext cx="58676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7924680" y="60199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大括号 4"/>
          <p:cNvSpPr/>
          <p:nvPr/>
        </p:nvSpPr>
        <p:spPr>
          <a:xfrm>
            <a:off x="380880" y="914400"/>
            <a:ext cx="990720" cy="5029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029200"/>
              <a:gd name="textAreaBottom" fmla="*/ 500364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5"/>
                </a:cubicBezTo>
                <a:lnTo>
                  <a:pt x="10800" y="10445"/>
                </a:lnTo>
                <a:cubicBezTo>
                  <a:pt x="10800" y="10623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5"/>
                </a:cubicBezTo>
                <a:lnTo>
                  <a:pt x="10800" y="21245"/>
                </a:lnTo>
                <a:cubicBezTo>
                  <a:pt x="10800" y="2142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大括号 9"/>
          <p:cNvSpPr/>
          <p:nvPr/>
        </p:nvSpPr>
        <p:spPr>
          <a:xfrm rot="10800000">
            <a:off x="7543800" y="837720"/>
            <a:ext cx="990720" cy="5257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5257800"/>
              <a:gd name="textAreaBottom" fmla="*/ 523224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8"/>
          <p:cNvGrpSpPr/>
          <p:nvPr/>
        </p:nvGrpSpPr>
        <p:grpSpPr>
          <a:xfrm>
            <a:off x="7238880" y="2133720"/>
            <a:ext cx="1676520" cy="3625560"/>
            <a:chOff x="7238880" y="2133720"/>
            <a:chExt cx="1676520" cy="3625560"/>
          </a:xfrm>
        </p:grpSpPr>
        <p:pic>
          <p:nvPicPr>
            <p:cNvPr id="64" name="Picture 2" descr="E:\ppt模板\个人作品\毕业\7397268_165311702131_2.jpg"/>
            <p:cNvPicPr/>
            <p:nvPr/>
          </p:nvPicPr>
          <p:blipFill>
            <a:blip r:embed="rId2"/>
            <a:stretch/>
          </p:blipFill>
          <p:spPr>
            <a:xfrm>
              <a:off x="7306200" y="5451840"/>
              <a:ext cx="1535760" cy="2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" descr="E:\ppt模板\个人作品\毕业\7397268_165311702131_2.jpg"/>
            <p:cNvPicPr/>
            <p:nvPr/>
          </p:nvPicPr>
          <p:blipFill>
            <a:blip r:embed="rId3"/>
            <a:stretch/>
          </p:blipFill>
          <p:spPr>
            <a:xfrm>
              <a:off x="7306920" y="2146680"/>
              <a:ext cx="198360" cy="36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" descr="E:\ppt模板\个人作品\毕业\7397268_165311702131_2.jpg"/>
            <p:cNvPicPr/>
            <p:nvPr/>
          </p:nvPicPr>
          <p:blipFill>
            <a:blip r:embed="rId4"/>
            <a:stretch/>
          </p:blipFill>
          <p:spPr>
            <a:xfrm>
              <a:off x="7238880" y="2133720"/>
              <a:ext cx="1676520" cy="36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6"/>
          <p:cNvGrpSpPr/>
          <p:nvPr/>
        </p:nvGrpSpPr>
        <p:grpSpPr>
          <a:xfrm>
            <a:off x="4876920" y="3583080"/>
            <a:ext cx="2287440" cy="1828800"/>
            <a:chOff x="4876920" y="3583080"/>
            <a:chExt cx="2287440" cy="1828800"/>
          </a:xfrm>
        </p:grpSpPr>
        <p:sp>
          <p:nvSpPr>
            <p:cNvPr id="68" name="直接连接符 10"/>
            <p:cNvSpPr/>
            <p:nvPr/>
          </p:nvSpPr>
          <p:spPr>
            <a:xfrm>
              <a:off x="4876920" y="5410440"/>
              <a:ext cx="2286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2"/>
            <p:cNvSpPr/>
            <p:nvPr/>
          </p:nvSpPr>
          <p:spPr>
            <a:xfrm flipH="1">
              <a:off x="7162920" y="3583080"/>
              <a:ext cx="1440" cy="182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7"/>
          <p:cNvSpPr/>
          <p:nvPr/>
        </p:nvSpPr>
        <p:spPr>
          <a:xfrm>
            <a:off x="990720" y="1066680"/>
            <a:ext cx="601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7"/>
          <p:cNvGrpSpPr/>
          <p:nvPr/>
        </p:nvGrpSpPr>
        <p:grpSpPr>
          <a:xfrm>
            <a:off x="7772400" y="533520"/>
            <a:ext cx="761760" cy="685800"/>
            <a:chOff x="7772400" y="533520"/>
            <a:chExt cx="761760" cy="685800"/>
          </a:xfrm>
        </p:grpSpPr>
        <p:sp>
          <p:nvSpPr>
            <p:cNvPr id="72" name="直接连接符 3"/>
            <p:cNvSpPr/>
            <p:nvPr/>
          </p:nvSpPr>
          <p:spPr>
            <a:xfrm>
              <a:off x="7772400" y="102348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4"/>
            <p:cNvSpPr/>
            <p:nvPr/>
          </p:nvSpPr>
          <p:spPr>
            <a:xfrm flipH="1">
              <a:off x="8085960" y="53352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9"/>
          <p:cNvGrpSpPr/>
          <p:nvPr/>
        </p:nvGrpSpPr>
        <p:grpSpPr>
          <a:xfrm>
            <a:off x="7848720" y="2209680"/>
            <a:ext cx="761400" cy="685800"/>
            <a:chOff x="7848720" y="2209680"/>
            <a:chExt cx="761400" cy="685800"/>
          </a:xfrm>
        </p:grpSpPr>
        <p:sp>
          <p:nvSpPr>
            <p:cNvPr id="75" name="直接连接符 10"/>
            <p:cNvSpPr/>
            <p:nvPr/>
          </p:nvSpPr>
          <p:spPr>
            <a:xfrm>
              <a:off x="7848720" y="2699640"/>
              <a:ext cx="31356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1"/>
            <p:cNvSpPr/>
            <p:nvPr/>
          </p:nvSpPr>
          <p:spPr>
            <a:xfrm flipH="1">
              <a:off x="8161920" y="22096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2"/>
          <p:cNvGrpSpPr/>
          <p:nvPr/>
        </p:nvGrpSpPr>
        <p:grpSpPr>
          <a:xfrm>
            <a:off x="8001000" y="5486400"/>
            <a:ext cx="761760" cy="685800"/>
            <a:chOff x="8001000" y="5486400"/>
            <a:chExt cx="761760" cy="685800"/>
          </a:xfrm>
        </p:grpSpPr>
        <p:sp>
          <p:nvSpPr>
            <p:cNvPr id="78" name="直接连接符 13"/>
            <p:cNvSpPr/>
            <p:nvPr/>
          </p:nvSpPr>
          <p:spPr>
            <a:xfrm>
              <a:off x="8001000" y="597636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4"/>
            <p:cNvSpPr/>
            <p:nvPr/>
          </p:nvSpPr>
          <p:spPr>
            <a:xfrm flipH="1">
              <a:off x="8314560" y="548640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15"/>
          <p:cNvGrpSpPr/>
          <p:nvPr/>
        </p:nvGrpSpPr>
        <p:grpSpPr>
          <a:xfrm>
            <a:off x="7924680" y="3809880"/>
            <a:ext cx="761760" cy="685800"/>
            <a:chOff x="7924680" y="3809880"/>
            <a:chExt cx="761760" cy="685800"/>
          </a:xfrm>
        </p:grpSpPr>
        <p:sp>
          <p:nvSpPr>
            <p:cNvPr id="81" name="直接连接符 16"/>
            <p:cNvSpPr/>
            <p:nvPr/>
          </p:nvSpPr>
          <p:spPr>
            <a:xfrm>
              <a:off x="7924680" y="4299840"/>
              <a:ext cx="313920" cy="19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7"/>
            <p:cNvSpPr/>
            <p:nvPr/>
          </p:nvSpPr>
          <p:spPr>
            <a:xfrm flipH="1">
              <a:off x="8238240" y="3809880"/>
              <a:ext cx="4482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8"/>
          <p:cNvSpPr/>
          <p:nvPr/>
        </p:nvSpPr>
        <p:spPr>
          <a:xfrm>
            <a:off x="1447920" y="137160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1447920" y="373392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 rot="20149200">
            <a:off x="7965720" y="178920"/>
            <a:ext cx="1052640" cy="838440"/>
          </a:xfrm>
          <a:prstGeom prst="rect">
            <a:avLst/>
          </a:prstGeom>
          <a:ln w="0">
            <a:noFill/>
          </a:ln>
        </p:spPr>
      </p:pic>
      <p:cxnSp>
        <p:nvCxnSpPr>
          <p:cNvPr id="86" name="肘形连接符 3"/>
          <p:cNvCxnSpPr/>
          <p:nvPr/>
        </p:nvCxnSpPr>
        <p:spPr>
          <a:xfrm flipV="1">
            <a:off x="380880" y="761760"/>
            <a:ext cx="7468560" cy="5487120"/>
          </a:xfrm>
          <a:prstGeom prst="bentConnector3">
            <a:avLst>
              <a:gd name="adj1" fmla="val 5346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7" name="TextBox 5"/>
          <p:cNvSpPr/>
          <p:nvPr/>
        </p:nvSpPr>
        <p:spPr>
          <a:xfrm>
            <a:off x="914400" y="1523880"/>
            <a:ext cx="259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167652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1"/>
          <p:cNvGrpSpPr/>
          <p:nvPr/>
        </p:nvGrpSpPr>
        <p:grpSpPr>
          <a:xfrm>
            <a:off x="1371600" y="4343400"/>
            <a:ext cx="6324480" cy="2200320"/>
            <a:chOff x="1371600" y="4343400"/>
            <a:chExt cx="6324480" cy="2200320"/>
          </a:xfrm>
        </p:grpSpPr>
        <p:pic>
          <p:nvPicPr>
            <p:cNvPr id="90" name="Picture 2" descr="C:\Documents and Settings\Owner\My Documents\My Pictures\256_498919_ca1e1ed7d466e3f_副本_副本.png"/>
            <p:cNvPicPr/>
            <p:nvPr/>
          </p:nvPicPr>
          <p:blipFill>
            <a:blip r:embed="rId2"/>
            <a:stretch/>
          </p:blipFill>
          <p:spPr>
            <a:xfrm>
              <a:off x="1371600" y="4724280"/>
              <a:ext cx="101916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" descr="C:\Documents and Settings\Owner\My Documents\My Pictures\256_498919_ca1e、e3f_副本_副本.png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1190520" cy="22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C:\Documents and Settings\Owner\My Documents\My Pictures\256_498919_ca1d7d66e3f_副本_副本.png"/>
            <p:cNvPicPr/>
            <p:nvPr/>
          </p:nvPicPr>
          <p:blipFill>
            <a:blip r:embed="rId4"/>
            <a:stretch/>
          </p:blipFill>
          <p:spPr>
            <a:xfrm>
              <a:off x="6705720" y="4800600"/>
              <a:ext cx="99036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C:\Documents and Settings\Owner\My Documents\My Pictures\256_498919_ca1d7d466e3f_副本_副本.png"/>
            <p:cNvPicPr/>
            <p:nvPr/>
          </p:nvPicPr>
          <p:blipFill>
            <a:blip r:embed="rId5"/>
            <a:stretch/>
          </p:blipFill>
          <p:spPr>
            <a:xfrm>
              <a:off x="4724280" y="4419360"/>
              <a:ext cx="1466640" cy="205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E:\ppt模板\个人作品\素材\b3ef76c641c8434f9d163d18_副本.png"/>
          <p:cNvPicPr/>
          <p:nvPr/>
        </p:nvPicPr>
        <p:blipFill>
          <a:blip r:embed="rId10"/>
          <a:stretch/>
        </p:blipFill>
        <p:spPr>
          <a:xfrm>
            <a:off x="7543800" y="2286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99" name="标题 1"/>
          <p:cNvSpPr/>
          <p:nvPr/>
        </p:nvSpPr>
        <p:spPr>
          <a:xfrm>
            <a:off x="3200400" y="19051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lkinnet</cp:lastModifiedBy>
  <dcterms:modified xsi:type="dcterms:W3CDTF">2012-05-09T05:44:4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